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2747-7BAA-432E-A4BE-BA7A4D710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C71B-0A75-4561-8445-57A61CF8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D33A-1073-4475-B93B-C78A06693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8C90-532E-43B6-87FE-E121C99CC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9BD6-FEB1-4FC6-83A4-90872F6B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4485-CAF2-4C8B-A5FB-C65D6CBA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D7C9-5F37-4282-A041-35F11EE5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94B3-4889-408E-8D0E-2246D8AE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5202-5603-4F19-8DBC-E7CCDAC2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B4C9-2B64-4727-AED9-A2D7441D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5FCB-81E8-4CCC-ACB1-F24AC0F8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1C73-181B-41F4-8921-207C6C8C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A15F-417A-445E-93AF-6BC29C169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tzbüh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lturstadt - Sportsta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kehrsgünstig gele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sbruck (100 k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zburg (80 k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ünchen (120 k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nwohner: 86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weitwohnsitze: 25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hö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0 bis 2000 m ü.d.M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ktivitä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10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Sommer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Golfzentrum der Alp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4 Plätze vor Ort, 19 weitere in unmittelbarer Näh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Badeseen: Schwarzsee, Gieringer Weiher, Badezentrum Aquaren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300 km Wanderwege, ca. 750 km Fahrrad- und Mountainbikerout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Tennisstadion, Tennishalle, 31 Freiplätze</a:t>
            </a:r>
            <a:br>
              <a:rPr sz="2400"/>
            </a:b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419360" y="1752120"/>
            <a:ext cx="4267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Winter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Schigebiet Kitzbühel, ca. 145 km Pisten, Snowboarder Funpar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50 km Langlaufloip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65 km Winterwanderwe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 Skischul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linghal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8T18:35:25Z</dcterms:created>
  <dc:creator>NEC Computers International</dc:creator>
  <dc:description/>
  <dc:language>en-US</dc:language>
  <cp:lastModifiedBy>NEC Computers International</cp:lastModifiedBy>
  <dcterms:modified xsi:type="dcterms:W3CDTF">2007-02-27T14:59:48Z</dcterms:modified>
  <cp:revision>4</cp:revision>
  <dc:subject/>
  <dc:title>Kitzbühel</dc:title>
</cp:coreProperties>
</file>