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568-54F6-4976-B175-FBCED31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D2D-E0E8-45AA-B759-D3217A4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30E-BBEE-4181-816E-59465D0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937-0850-4EAE-9D98-2A0D83DE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DDE-FB03-4DF8-BBC3-A43DB47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EDD-A9CC-4831-AA08-8C9862C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70D-C5FC-44D8-9345-9141F48C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C02-6DEE-4EBF-A9C6-2804D727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75E-A9DC-4A86-9856-E9D73F95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2EF-BBE3-4911-AA41-24D2DCE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14F-465D-4671-8F98-972C58B9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10-B359-4B96-9F20-AAE3C4C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2A4B-8276-4576-9362-2B78A48E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hnenkammre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chich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/3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tes Internationales Hahnenkamm-Re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er Jahre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if und Ganslern etablieren sich als „die“ Rennstrecken für das Hahnenkamm-Re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erste Hahnenkamm-Weltcupveranstaltung findet sta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er Jahre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terer intensiver Ausbau der Streckensicherheit und Pisten von Streif und Ganslern sowie laufende Neuerungen für das Zuschauer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tcuprenn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2560" y="1949400"/>
            <a:ext cx="7703280" cy="4102200"/>
            <a:chOff x="682560" y="1949400"/>
            <a:chExt cx="7703280" cy="4102200"/>
          </a:xfrm>
        </p:grpSpPr>
        <p:cxnSp>
          <p:nvCxnSpPr>
            <p:cNvPr id="46" name="_s6164"/>
            <p:cNvCxnSpPr>
              <a:stCxn id="47" idx="0"/>
              <a:endCxn id="48" idx="2"/>
            </p:cNvCxnSpPr>
            <p:nvPr/>
          </p:nvCxnSpPr>
          <p:spPr>
            <a:xfrm flipV="1" rot="16200000">
              <a:off x="5160960" y="2962800"/>
              <a:ext cx="821160" cy="20743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6163"/>
            <p:cNvCxnSpPr>
              <a:stCxn id="50" idx="0"/>
              <a:endCxn id="48" idx="2"/>
            </p:cNvCxnSpPr>
            <p:nvPr/>
          </p:nvCxnSpPr>
          <p:spPr>
            <a:xfrm flipH="1" flipV="1" rot="5400000">
              <a:off x="3087000" y="29628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6159"/>
            <p:cNvSpPr/>
            <p:nvPr/>
          </p:nvSpPr>
          <p:spPr>
            <a:xfrm>
              <a:off x="2756880" y="194940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100" spc="-1" strike="noStrike">
                  <a:solidFill>
                    <a:srgbClr val="000000"/>
                  </a:solidFill>
                  <a:latin typeface="Times New Roman"/>
                </a:rPr>
                <a:t>Hahnekammrennen 2006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6160"/>
            <p:cNvSpPr/>
            <p:nvPr/>
          </p:nvSpPr>
          <p:spPr>
            <a:xfrm>
              <a:off x="682560" y="441072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100" spc="-1" strike="noStrike">
                  <a:solidFill>
                    <a:srgbClr val="000000"/>
                  </a:solidFill>
                  <a:latin typeface="Times New Roman"/>
                </a:rPr>
                <a:t>Super-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6161"/>
            <p:cNvSpPr/>
            <p:nvPr/>
          </p:nvSpPr>
          <p:spPr>
            <a:xfrm>
              <a:off x="4830480" y="441072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100" spc="-1" strike="noStrike">
                  <a:solidFill>
                    <a:srgbClr val="000000"/>
                  </a:solidFill>
                  <a:latin typeface="Times New Roman"/>
                </a:rPr>
                <a:t>Herrenabfahr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trittspre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eger der Herrenabfah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eger der K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25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0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jetil Andre Aamondt (NOR)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se Kjus(NOR)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jetil Andre Aamondt (NOR)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3: Michael Walchhofer (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4: Bode Miller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5: Abfahrt abgesa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006: Benjamin Ra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07:37:27Z</dcterms:created>
  <dc:creator>NEC Computers International</dc:creator>
  <dc:description/>
  <dc:language>en-US</dc:language>
  <cp:lastModifiedBy>user</cp:lastModifiedBy>
  <dcterms:modified xsi:type="dcterms:W3CDTF">2007-12-13T18:58:05Z</dcterms:modified>
  <cp:revision>8</cp:revision>
  <dc:subject/>
  <dc:title>Hahnenkammrennen</dc:title>
</cp:coreProperties>
</file>